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2F1-CA70-4E04-8D12-1B9A0750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90F-3872-4FD8-9C75-F0D17384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F05-AE55-4484-ACF5-454E20EB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EC8-0D1F-4CF3-A98B-2BDD97A5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DCB0-D1B7-4D11-8F79-64001B47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3809-88B4-4996-BABF-34819C1C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E4B8-2E97-4C99-8182-E075D4D6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1F1E-2150-4580-8CF4-261CF5FB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01A7-3CC2-4E4A-84CF-EDC6BB2C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8B6E-AE7F-4D65-A19B-7001155B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9806-9695-4979-A3FC-7CCAB5A0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EAD-8A38-4CD9-8C22-9B5F4C5E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6101-D2C6-40D5-AEFC-E4488CCE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0180-5858-4A8F-9029-7D48130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8191-4CF4-4534-9626-E74C71D8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4EC6-B18F-410B-9E16-7492D380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4353-046E-4345-9A2C-80617737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884-D04B-418D-931F-491F284A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1F5-4824-4500-8F18-EFD2AC92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F33-196C-4234-9B6A-6B884B8A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6D9-A980-40A8-80DF-EED2BC84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080-E6D2-4572-BEDF-83E1B44E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D3E-470E-4875-B0E2-4302FBDE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327-CAF8-407B-B4B9-3F5BEF3E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66C9-19E7-4279-B624-06BB63FDC2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F296-8EB4-465A-BB1C-13BF658FED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ПЛАТИВОСТ ИНВЕСТИЦИОНИХ УЛАГАЊ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2571840"/>
                <a:gridCol w="565776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сконтна сто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о садашња вред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 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цена исплативости инвест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Сврха инвестир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устајање од текуће потрошње да би се кроз инвестирање обезбедили позитивни ефекти у будућ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цена исплативости инвестиција може се вршити коришћењем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две групе показатељ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Статичке методе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Динамике мет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ат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азивају се још и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традиционалне мет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ажна карактеристика је да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не укључују временску компонент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 али је то истовремено и њихов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највећи недостат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статичке методе се убрај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Период повраћа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Arial"/>
              </a:rPr>
              <a:t>Рачуноводствена стопа прино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ат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Период повраћај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се одређује бројем година који је потребно да протекне да би се из годишњих нето новчаних токова отплатио иницијални капитални издат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581280" y="3886200"/>
            <a:ext cx="5181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новчани ток у години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p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период повраћ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инвестициони тро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868320" y="4572000"/>
            <a:ext cx="1822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тат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752480"/>
          <a:ext cx="8229600" cy="4772160"/>
        </p:xfrm>
        <a:graphic>
          <a:graphicData uri="http://schemas.openxmlformats.org/drawingml/2006/table">
            <a:tbl>
              <a:tblPr/>
              <a:tblGrid>
                <a:gridCol w="1646280"/>
                <a:gridCol w="3840120"/>
                <a:gridCol w="274320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ишњи нето новчани то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атак улаг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повраћ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Важна карактеристика је да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 укључују временску компонент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 односно респектују 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временску вредност нов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инамичке методе се заснивају на 2 поступ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Дисконтовањ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Капитализац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У динамичке методе се убрај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Метод нето садашње вредност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0000"/>
                </a:solidFill>
                <a:latin typeface="Arial"/>
              </a:rPr>
              <a:t>Интерна стопа прино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СВ је разлика између садашње вредности очекиваних нето прилива од пројекта и инвестиционог трошка. 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ритеријум – НСВ веће од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278136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581280" y="3886200"/>
            <a:ext cx="5181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PV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садашња вред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трајање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новчани ток у години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година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инвестициони тро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захтевани при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676520"/>
          <a:ext cx="8610480" cy="5025960"/>
        </p:xfrm>
        <a:graphic>
          <a:graphicData uri="http://schemas.openxmlformats.org/drawingml/2006/table">
            <a:tbl>
              <a:tblPr/>
              <a:tblGrid>
                <a:gridCol w="1344600"/>
                <a:gridCol w="2063880"/>
                <a:gridCol w="3049560"/>
                <a:gridCol w="2152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вчани 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сконтни фактор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=1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дашња вред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r>
                        <a:rPr b="0" lang="sr-R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2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84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о садашња вред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6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намичке метод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СП је она дисконтна стопа која НСВ своди на 0 (нул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Критеријум – ИСП треба да буде већа од трошка капитала (кама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581280" y="3962520"/>
            <a:ext cx="5181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трајање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нето новчани ток у години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година про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 – инвестициони тро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RR </a:t>
            </a:r>
            <a:r>
              <a:rPr b="0" lang="sr-RS" sz="2400" spc="-1" strike="noStrike">
                <a:solidFill>
                  <a:srgbClr val="0000ff"/>
                </a:solidFill>
                <a:latin typeface="Arial"/>
              </a:rPr>
              <a:t>– ИСП (интерна стопа прино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431640" y="4572000"/>
            <a:ext cx="2786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22T20:05:55Z</dcterms:modified>
  <cp:revision>155</cp:revision>
  <dc:subject/>
  <dc:title>Soft and Hard Skills Development: A Current Situation in Serbian Companies</dc:title>
</cp:coreProperties>
</file>